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45DC-959D-45A3-A04B-723A5A39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45E3-62BD-46BB-AD1C-53449B6D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902A-7235-43D5-A927-C3F521CE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4408-5C69-4801-BBDE-01491509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0BA4-391F-49FA-BBAD-24B7FABC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C47-4767-4B9B-B17B-F1217FA8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AE44-E828-4109-BBB3-835C85A6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DFC2-D013-49CC-92FA-6AA2AA69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23C2-FF00-4A19-9052-1A7E6EFA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D232-6B62-47DD-8A4B-6E828B6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C89E-1862-4C56-BE1F-C1E9F0B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C8DC-E4F1-46AC-A7F6-E02762B9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47BC-05F2-45CF-BC97-B89D8364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7EC2-65B4-42C7-AD21-317A090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68D5-38A3-4EB8-A47F-F32AF3FA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DB60-0916-4B5C-B3BA-91527964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8CF5-4242-4746-A208-6E06F2ED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E0D3-8601-4C27-AB47-ED962CA4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43C9-7F49-49A6-BC56-40C0584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0D4E-B0DF-45A8-A265-A431614B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DDE4-CD29-4A69-B51A-154D44ED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F1BD-03BC-43EA-9F6B-554CE2C2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D822-4145-4692-B1CC-35E1022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79A3-1026-4DEB-94C9-B7C3040C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D806-329B-4ED7-A04C-04EB9E146C4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9C6-6A86-46F7-9C5D-F3CCDA37CBD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451880"/>
            <a:ext cx="93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4 (606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Ти, пред Когото открито е вс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ук на земята, и горе в неб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е аз ида, изпитай ме 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от грях и от робство ме освободи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800360"/>
            <a:ext cx="9325080" cy="36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2. Ти път да ми бъдеш и виделина, когато се скитам аз тук в тъмнина!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е плаши ме яростна, вражеска мощ,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[Христа като имам Защитник и Вожд!:]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15880"/>
            <a:ext cx="95774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Кога връхлетят и най-мрачните дни, когато потъвам под скръбни вълни, Ти с помощ отгоре да ме подкрепиш, [:Ти да ме подпираш и ме насърчиш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25720"/>
            <a:ext cx="95774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 Трънлив ако бъде и стръмен тоз пъ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дай според нуждата ми благодат, докато на подвиг и скръб дойде край [:там в радостний мирний и вечний Твой рай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1-06T16:13:59Z</dcterms:modified>
  <cp:revision>120</cp:revision>
  <dc:subject/>
  <dc:title>Slide 1</dc:title>
</cp:coreProperties>
</file>